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9C4-5800-4E33-92B4-52E7785C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697-64E1-4C7E-B5EA-9D701ADC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D58-CE15-4B86-AB43-8610F7BB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5EB-39FD-4A0C-8648-4355ACCF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D4D-FD41-4AC2-B04B-EF9D7376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23C-F684-4CD2-9A51-6B2F7E36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2EB-06CA-4FCB-808C-B47896F1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0E2-7560-42D4-953F-2B7DDBBD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E50-068A-424A-9BC9-DB3C9D6C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ABE-F57C-427D-BC4C-75B05191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3CC-657D-497C-814E-6A770316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CCF-C70A-4B10-A991-157AF8F0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70D3-2247-4655-B1EB-B3B31B676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276720" y="4365720"/>
            <a:ext cx="121896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ze (cor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n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pe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m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724280" y="4343400"/>
            <a:ext cx="106704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lk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neap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c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0" y="0"/>
            <a:ext cx="83818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4-30-12    *No ho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0" y="380880"/>
            <a:ext cx="89154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4-30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Make two columns on your focus sheet and type in each food’s origin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LD World (Eastern Hemisphe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W World (Western Hemisphere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ShipsSetSailForBelfastMaritimeFestival18May06"/>
          <p:cNvPicPr/>
          <p:nvPr/>
        </p:nvPicPr>
        <p:blipFill>
          <a:blip r:embed="rId1"/>
          <a:stretch/>
        </p:blipFill>
        <p:spPr>
          <a:xfrm>
            <a:off x="6981840" y="1905120"/>
            <a:ext cx="2162160" cy="2904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landing_of_columbus_1"/>
          <p:cNvPicPr/>
          <p:nvPr/>
        </p:nvPicPr>
        <p:blipFill>
          <a:blip r:embed="rId2"/>
          <a:srcRect l="0" t="2818" r="14816" b="0"/>
          <a:stretch/>
        </p:blipFill>
        <p:spPr>
          <a:xfrm>
            <a:off x="0" y="4686480"/>
            <a:ext cx="2825640" cy="2171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GEM_corn"/>
          <p:cNvPicPr/>
          <p:nvPr/>
        </p:nvPicPr>
        <p:blipFill>
          <a:blip r:embed="rId3"/>
          <a:stretch/>
        </p:blipFill>
        <p:spPr>
          <a:xfrm>
            <a:off x="6705720" y="5240160"/>
            <a:ext cx="2438280" cy="1617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sun"/>
          <p:cNvPicPr/>
          <p:nvPr/>
        </p:nvPicPr>
        <p:blipFill>
          <a:blip r:embed="rId4"/>
          <a:stretch/>
        </p:blipFill>
        <p:spPr>
          <a:xfrm>
            <a:off x="8385120" y="0"/>
            <a:ext cx="758880" cy="758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838080" y="1523880"/>
            <a:ext cx="1219320" cy="27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pe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lkw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105520" y="1523880"/>
            <a:ext cx="1218960" cy="249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ze (cor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n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m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neap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c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819520" y="3962520"/>
            <a:ext cx="373356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fornian FB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fornian FB"/>
              </a:rPr>
              <a:t>? ? ? New World or Old World ? ?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16" descr=""/>
          <p:cNvPicPr/>
          <p:nvPr/>
        </p:nvPicPr>
        <p:blipFill>
          <a:blip r:embed="rId5"/>
          <a:stretch/>
        </p:blipFill>
        <p:spPr>
          <a:xfrm>
            <a:off x="1968480" y="2382840"/>
            <a:ext cx="330516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image019"/>
          <p:cNvPicPr/>
          <p:nvPr/>
        </p:nvPicPr>
        <p:blipFill>
          <a:blip r:embed="rId1"/>
          <a:stretch/>
        </p:blipFill>
        <p:spPr>
          <a:xfrm>
            <a:off x="0" y="644400"/>
            <a:ext cx="91440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20:14:18Z</dcterms:created>
  <dc:creator>poweruser</dc:creator>
  <dc:description/>
  <dc:language>en-US</dc:language>
  <cp:lastModifiedBy>poweruser</cp:lastModifiedBy>
  <dcterms:modified xsi:type="dcterms:W3CDTF">2012-04-29T18:09:11Z</dcterms:modified>
  <cp:revision>7</cp:revision>
  <dc:subject/>
  <dc:title>Slide 1</dc:title>
</cp:coreProperties>
</file>